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14.gif" ContentType="image/gif"/>
  <Override PartName="/ppt/media/image13.gif" ContentType="image/gif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5.jpeg" ContentType="image/jpeg"/>
  <Override PartName="/ppt/media/image6.png" ContentType="image/png"/>
  <Override PartName="/ppt/media/camera.wav" ContentType="audio/x-wav"/>
  <Override PartName="/ppt/media/image10.wmf" ContentType="image/x-wmf"/>
  <Override PartName="/ppt/media/image7.png" ContentType="image/png"/>
  <Override PartName="/ppt/media/image11.wmf" ContentType="image/x-wmf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951663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51600" cy="924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8400" y="-360"/>
            <a:ext cx="30128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20960" cy="346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27000" y="4389120"/>
            <a:ext cx="5097600" cy="41590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877860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8400" y="8778600"/>
            <a:ext cx="30128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E742E8F-8103-48EF-A3F0-A0801B7D33C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20960" cy="34653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27000" y="4389120"/>
            <a:ext cx="5097600" cy="41590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Holi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20960" cy="34653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7000" y="4389120"/>
            <a:ext cx="5097600" cy="41590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crawler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rch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20960" cy="34653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27000" y="4389120"/>
            <a:ext cx="5097600" cy="41590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e it to individual b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4FBD-1D47-42EC-A0D2-BD64A98AF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5079-78E3-491C-B992-C727B4FDE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8A28-4E85-467F-87C6-ACB1751E9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D5FA-E6BC-47F2-B283-532561BF9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56ACA-ACC2-4613-ADC4-E8763C82A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47999-AB4B-4EBF-8316-C4A1198F2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93251-007D-4B55-8080-14D7A1D3E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D7A3F-5D43-48BD-B620-738916615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A4306-7E44-4C3A-8035-00F12C530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FD569-4154-47F2-940F-38D2A6FA6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E91FA-77BE-47ED-89AA-2D3EA7D6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609D-AC4E-4521-B815-58F34415E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FA4D6-53EE-480D-AB4F-FE54B8DA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9F412-2CEC-4B9B-BAFD-4EAC14FAD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31A74-49FC-4BCE-B5AD-D2F5A8539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C7D41-061E-4388-9ACF-4B5D0282E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0A2C2-3075-4B5C-9EC1-05414EA24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B244-F469-4900-AC11-9A165F8AA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5C6D-75B9-448C-8416-CD1E5A497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4D36-27B4-42D8-B779-64F46383C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A807-E893-4DE0-B7C8-26E60DD1E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2B69-F65E-4DC9-98D7-A12A590E9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472F-1325-43EA-BE47-2A32FCC4F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D394-6D43-442D-811A-A26489BA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A460E-73E9-43E6-A1E2-D117303C3CB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CCB4D-8B6C-496C-BE3C-2D2E247A484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ebsearch.about.com/library/cheatsheet/blgooglecheatsheet.htm" TargetMode="External"/><Relationship Id="rId2" Type="http://schemas.openxmlformats.org/officeDocument/2006/relationships/hyperlink" Target="http://www.boolify.org/" TargetMode="External"/><Relationship Id="rId3" Type="http://schemas.openxmlformats.org/officeDocument/2006/relationships/hyperlink" Target="http://www.boolify.org/" TargetMode="External"/><Relationship Id="rId4" Type="http://schemas.openxmlformats.org/officeDocument/2006/relationships/hyperlink" Target="http://www.boolify.org/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ahoo.com/" TargetMode="External"/><Relationship Id="rId2" Type="http://schemas.openxmlformats.org/officeDocument/2006/relationships/hyperlink" Target="http://www.ask.com/" TargetMode="External"/><Relationship Id="rId3" Type="http://schemas.openxmlformats.org/officeDocument/2006/relationships/hyperlink" Target="http://www.askjeeves.com/" TargetMode="External"/><Relationship Id="rId4" Type="http://schemas.openxmlformats.org/officeDocument/2006/relationships/hyperlink" Target="http://www.lycos.com/" TargetMode="External"/><Relationship Id="rId5" Type="http://schemas.openxmlformats.org/officeDocument/2006/relationships/hyperlink" Target="http://www.dogpile.com/" TargetMode="External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f0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12189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"/>
              </a:rPr>
              <a:t>Searching the Internet Using Google Tips and Trick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447920" y="2895480"/>
            <a:ext cx="6248160" cy="24894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f0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520" y="1143000"/>
            <a:ext cx="84582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Comic Sans MS"/>
              </a:rPr>
              <a:t>Easy Google Tips </a:t>
            </a:r>
            <a:br>
              <a:rPr sz="5400"/>
            </a:br>
            <a:r>
              <a:rPr b="0" lang="en-US" sz="5400" spc="-1" strike="noStrike">
                <a:solidFill>
                  <a:srgbClr val="333399"/>
                </a:solidFill>
                <a:latin typeface="Comic Sans MS"/>
              </a:rPr>
              <a:t>for Searching the Internet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617040"/>
            <a:ext cx="8715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se Boolean Operato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d only those pages that contain both of the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d all pages that contain either of the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d all pages that contain the word before not, then remove any that also contain the word following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l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870280" y="1359000"/>
            <a:ext cx="3403440" cy="4140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09480" y="380880"/>
            <a:ext cx="8077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George Bo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1815-18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905120" y="6172200"/>
            <a:ext cx="632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oto courtesy of: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http://www-groups.dcs.st-andrews.ac.uk/~history/Mathematicians/Boole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47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2.   Exact Phrase Mat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multi-word terms in quotes to instruct the site to match only pages that show the same words in the same ord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49495"/>
          <a:stretch/>
        </p:blipFill>
        <p:spPr>
          <a:xfrm>
            <a:off x="1219320" y="3733920"/>
            <a:ext cx="6858000" cy="25970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971800" y="5410080"/>
            <a:ext cx="1600200" cy="6098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560" y="617040"/>
            <a:ext cx="863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3.  Order of Word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order  of your words does matt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 you mean:  “pizza pepperoni” or “pepperoni pizza”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 rot="21269400">
            <a:off x="380520" y="3809880"/>
            <a:ext cx="4210200" cy="191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Comic Sans MS"/>
              </a:rPr>
              <a:t>Pepperoni Pizz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132" name=""/>
          <p:cNvSpPr txBox="1"/>
          <p:nvPr/>
        </p:nvSpPr>
        <p:spPr>
          <a:xfrm rot="20374800">
            <a:off x="5105520" y="4190760"/>
            <a:ext cx="3562200" cy="191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Comic Sans MS"/>
              </a:rPr>
              <a:t>Pizza Pepperon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</p:spTree>
  </p:cSld>
  <p:transition>
    <p:cover dir="l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240" y="617040"/>
            <a:ext cx="8715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4.  Number Rang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23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y using two periods with no spaces between two numbers in the search box, you are using a number range to sear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276720" y="3878280"/>
            <a:ext cx="2743200" cy="24890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14240" y="8377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5.  Google Sit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23520" y="2438280"/>
            <a:ext cx="7086600" cy="41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ows you to ask Google to search a specific site for yo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ype in search box: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:target.com “patio furnitur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:lakeviewacademy.com “calendar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2121120" cy="20923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360" y="1066680"/>
            <a:ext cx="8638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6.  Google Defin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21333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feature is handy if you don’t know the spelling of a wor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ust type in define or definition and the word in the search box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useful to define “buzz words” or phrases that occur commonl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715000" y="304920"/>
            <a:ext cx="1978200" cy="17874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2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2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1920" y="617040"/>
            <a:ext cx="879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7.  Google Phoneboo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Google to find a number or addr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name (first initial), last name, city or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name (first initial), last name, area code or zip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one number, with area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name, city,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lso a name removal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707160" y="4343400"/>
            <a:ext cx="2035080" cy="20667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2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2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2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2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20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20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240" y="617040"/>
            <a:ext cx="8715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8.  Google Calcul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Google to convert measurements, and do simple math problems.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mply type in a conversion into the search bo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ff0000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gallons in li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ff0000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.2 miles in kilo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ff0000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quare root (891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122880" y="3886200"/>
            <a:ext cx="1797120" cy="20383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2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2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2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2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2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2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2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2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the Internet?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2017800"/>
            <a:ext cx="423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is the world’s largest network of compute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twork is a group of two or more computer systems linked together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105520" y="2743200"/>
            <a:ext cx="3273480" cy="23781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560" y="617040"/>
            <a:ext cx="863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9.  Google Advanced Search Op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his option for a very specific sear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as much information as you c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can narrow down your search to a  specific time period o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l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2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2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2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2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0. 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oogle Custom Search Engin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ows users to select their own websites for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share with others (they can add websites, to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rs can customize home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here to get starte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79292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ahoma"/>
              </a:rPr>
              <a:t>If all else fails…</a:t>
            </a:r>
            <a:br>
              <a:rPr sz="4000"/>
            </a:br>
            <a:r>
              <a:rPr b="0" lang="en-US" sz="4000" spc="-1" strike="noStrike">
                <a:solidFill>
                  <a:srgbClr val="ccccff"/>
                </a:solidFill>
                <a:latin typeface="Tahoma"/>
              </a:rPr>
              <a:t>Think about changing.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057400" y="2209680"/>
            <a:ext cx="495288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earch Engines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362320" y="4267080"/>
            <a:ext cx="426708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earch Terms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p:transition>
    <p:cover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tional Resour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040" y="114300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ogle Book Sear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ogle Univers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ogle Ne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ogle Scho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ogle for Educa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ogle Cheat She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ebsearch.about.com/library/cheatsheet/blgooglecheatsheet.h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ewzi     http://www.viewzi.com/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oolify   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www.boolify.org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What is the World Wide Web?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12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part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ludes text pictures, sounds,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browser software to access (Internet Explorer, Foxfire, Netscap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429000" y="4191120"/>
            <a:ext cx="2362320" cy="23461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a Search Engine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 web page where you can conduct a search of the Web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l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s of Search Engi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yahoo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e4a8"/>
                </a:solidFill>
                <a:latin typeface="Tahoma"/>
              </a:rPr>
              <a:t>www.google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ask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www.askjeeves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www.lycos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www.dogpile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e4a8"/>
                </a:solidFill>
                <a:latin typeface="Tahoma"/>
              </a:rPr>
              <a:t>www.clusty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4876920" y="533412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343400" y="5867280"/>
            <a:ext cx="14479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518148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Meta Search Eng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an I Really Search the Whole Web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arch site goes out and searches the entire Web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earch engine has its own database (set of files)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715000" y="2362320"/>
            <a:ext cx="2629080" cy="11905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715000" y="3581280"/>
            <a:ext cx="2516040" cy="25164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Ter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ord of phrase you type in a text box on a search site’s main pag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523880" y="3276720"/>
          <a:ext cx="6245280" cy="230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276720"/>
                    <a:ext cx="6245280" cy="23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 flipV="1">
            <a:off x="1752480" y="4876560"/>
            <a:ext cx="1371600" cy="60948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55627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earch Term goes h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2049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ahoma"/>
              </a:rPr>
              <a:t>Hit Lis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6960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</a:rPr>
              <a:t>A list of links to websites produced by a search engine in response to a search term that you have enter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447920" y="209556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bout Hi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hit list may show no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00"/>
                </a:solidFill>
                <a:latin typeface="Tahoma"/>
              </a:rPr>
              <a:t>Modify your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hit list may show thousands of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00"/>
                </a:solidFill>
                <a:latin typeface="Tahoma"/>
              </a:rPr>
              <a:t>Be more speci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likely matches at top of 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 30-5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l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14:40:51Z</dcterms:created>
  <dc:creator>Cindy  Crowe</dc:creator>
  <dc:description/>
  <dc:language>en-US</dc:language>
  <cp:lastModifiedBy> </cp:lastModifiedBy>
  <dcterms:modified xsi:type="dcterms:W3CDTF">2008-07-24T18:34:23Z</dcterms:modified>
  <cp:revision>75</cp:revision>
  <dc:subject/>
  <dc:title>Searching the Internet</dc:title>
</cp:coreProperties>
</file>